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chimes.wav" ContentType="audio/x-wav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D678-057E-45F2-9AC3-167EC4D7D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18A8-75E4-46DF-8961-DEE76C6ED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C0B6-F83F-4D6E-B64E-5249E875B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870B-1522-4A99-B599-5C0C3D6B7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F1E-D351-45C4-92CD-9F3DF333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F64-C56D-4F0D-9B26-E5400C3D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35F-457E-4EA2-811B-96DC053A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6C6-BD4F-4BDE-B097-DDDE1688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9EBD-66FB-43E7-870A-66E005B4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74A-2D78-4523-A857-9F146BF0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111-06A8-40B9-B7F9-9674FB9C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ACA-BB4F-45D0-9230-4813E8C6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F96-4450-40E8-8559-2ADE3984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AFC2-C2CD-4CFD-A6B5-11C25011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B27-880C-441D-9461-1765C7FF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24D-4763-4181-998B-2FC4D07D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7DD3-49C3-49C7-AAE5-0DD634B54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25905" t="6900" r="4817" b="15247"/>
          <a:stretch/>
        </p:blipFill>
        <p:spPr>
          <a:xfrm>
            <a:off x="3240" y="-1440"/>
            <a:ext cx="9136080" cy="6860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560" y="83808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Dust"/>
              </a:rPr>
              <a:t>Mrs. Scurry’s Clas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580920" y="3352680"/>
            <a:ext cx="495324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you need to k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1440" y="274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71440" y="160020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all teacher dir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class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hands and feet to 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polite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25930" t="0" r="45185" b="0"/>
          <a:stretch/>
        </p:blipFill>
        <p:spPr>
          <a:xfrm>
            <a:off x="0" y="0"/>
            <a:ext cx="2819520" cy="6873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Weekly Assignm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will have spelling words each 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work is sent daily except on Fri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ekly checkups will be given in Math and spelling (usually on Fri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assignments are graded on a rubr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 flipV="1">
            <a:off x="1219320" y="-76320"/>
            <a:ext cx="8534160" cy="7632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7143" t="9131" r="44047" b="32074"/>
          <a:stretch/>
        </p:blipFill>
        <p:spPr>
          <a:xfrm>
            <a:off x="6399360" y="4648320"/>
            <a:ext cx="274464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 the learning begi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0200" y="1744560"/>
            <a:ext cx="6172200" cy="4808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21:08:14Z</dcterms:created>
  <dc:creator>dscurry</dc:creator>
  <dc:description/>
  <cp:keywords/>
  <dc:language>en-US</dc:language>
  <cp:lastModifiedBy>dscurry</cp:lastModifiedBy>
  <dcterms:modified xsi:type="dcterms:W3CDTF">2011-08-22T21:35:44Z</dcterms:modified>
  <cp:revision>3</cp:revision>
  <dc:subject/>
  <dc:title>Mrs. Scurry’s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35029990</vt:lpwstr>
  </property>
</Properties>
</file>